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7D0-5095-49F4-B029-ADA2D23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192-8EAC-493E-A0CC-7E2F7415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AB6-F147-4770-A196-1B3D3B85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679-9729-43EB-9121-EE7156EE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E3D1-7CD9-48DD-BD8A-082819E9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C715-8583-4C0E-BA7E-40843958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BD4-A0D1-428E-9751-01CA1E87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C21A-15BC-49A3-914F-37E1C45C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CDB5-431C-4CE9-A3B7-3B100425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F33-369F-43DD-AF99-68C0FCC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2D2-534C-4884-A2D8-878E88A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F4F-F79D-4EB2-9F87-93C9ECB5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540-CD79-4BBD-B8AF-B88EED9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67A2-BF2A-4F51-8423-B5972F9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E75E-BD0A-44A0-8664-4F9E4D65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6102-38F3-4D6F-BE6E-7BAFE97E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968-C1F4-4C01-94FF-302A99C9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673-EED1-491D-A790-7F43183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8FE-A6D5-4654-B138-EBABA77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34C-0600-4769-AEC5-8455A7E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B81-4111-4E7C-8793-5313335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7F-6192-43E5-9A5A-3B783BE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E87-1C5B-4D8B-8F77-B457A00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A64-CB17-4801-9FD9-9D59958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94E-27F3-4206-B186-B7462098D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6F1-CC5C-4158-B592-0961B5FD5D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freccia.wikispaces.com/" TargetMode="External"/><Relationship Id="rId2" Type="http://schemas.openxmlformats.org/officeDocument/2006/relationships/hyperlink" Target="mailto:frecciab@christina.k12.de.u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Welcome to E105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Department Ch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Government Advi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ar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 Question for the class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coming assignments / due 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bell sche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book 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r Marking Period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n Mr. Freccia is abs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 will always be on the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 due at the beginning (if you turn it in later the sub is told not to accept i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W due at the end (even if you are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done with the assign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due the following class is still due (follow the calendar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I can help you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wikifreccia.wikispac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: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frecciab@christina.k12.de.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m I here?  6:30am to 3:30pm M-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Periods:  Period 5 (Black)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6 (Gol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isory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troductions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because a little bragging doesn’t hurt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Mr. Freccia (and why he rocks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Kean High School (199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laware (2002 and 200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at Newark in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Government advisor (since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artment Chair (since 200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of the Year in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ed historian, award winning tea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r. Freccia</a:t>
            </a:r>
            <a:r>
              <a:rPr b="0" lang="ja-JP" sz="4400" spc="-1" strike="noStrike">
                <a:solidFill>
                  <a:srgbClr val="dbbd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 Quirks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just so you don’t get the wrong idea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it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rky sarca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 Ro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s his job seriously…and I’m a NER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asionally short temp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im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ort is impor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should I care if you don’t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CARE – give me a reason t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y you should care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not just about Social Studies, but school in general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 year is the critical year if you are planning to go to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is knocking, are you going to answ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ing sports requires a 2.0 G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ne wins by being academically inelig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year activities only available to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raders (not “slasher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rcRect l="0" t="10758" r="41999" b="0"/>
          <a:stretch/>
        </p:blipFill>
        <p:spPr>
          <a:xfrm>
            <a:off x="484200" y="15840"/>
            <a:ext cx="83185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43853" t="9050" r="0" b="0"/>
          <a:stretch/>
        </p:blipFill>
        <p:spPr>
          <a:xfrm>
            <a:off x="633240" y="14400"/>
            <a:ext cx="79012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assroom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background noise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acting for me, distracting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-out and take the pass (MP lim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prepared, be 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k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odle, you clean all the de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/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t down and clean it up (or privilege is lo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expect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results, not exc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of success is being here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others with resp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my teacher to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other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prop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sponsible for my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sponsible for my own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remember to be awe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ound the ro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s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devices and gadg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make-up work is loc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r graded work wi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cil Sharp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ok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wallpap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sh and recycle b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proced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End User</cp:lastModifiedBy>
  <dcterms:modified xsi:type="dcterms:W3CDTF">2013-08-26T00:28:06Z</dcterms:modified>
  <cp:revision>45</cp:revision>
  <dc:subject/>
  <dc:title>Welcome to E105!</dc:title>
</cp:coreProperties>
</file>